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media/image3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586-FF47-4888-B9D4-720901485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A63E-87D6-4827-AF36-DA293E15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23F3-8301-44B3-8FD1-345B3E39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219B-870F-479E-844B-44022305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3896-9B63-4D64-93B7-D88ABBA6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2AFD-FC36-4EEC-9CA8-CCB546BE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1DBD3-DC94-4C7F-A20E-D997FD498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706B9-2BEB-47F9-821D-5368AEF49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51BA-C351-4FBA-9673-9699F345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AA13-C70B-4268-94FD-49D23524E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5296-0C33-40DD-A305-BB0A563E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38AD-105B-4B9E-8C0B-8397A2F0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82F4-DD57-4D79-914F-37B456D9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71B4-1817-457C-BD9A-C45D1CA0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82BE-9F24-4A0F-A770-5664E41C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CE38-8958-4FC6-A514-725D77CC5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2F67-3D43-42E4-B016-C0B380065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E0E6-7B82-4324-B249-0411D9DC3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AAF-4E25-457B-B5A2-79A8E396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E0E1-D4D0-464B-8E77-2774582D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CEE-E302-4523-B35E-BBC80DB1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AB5-5F91-4B6F-94EF-30639E75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B08E-77A8-42A5-9898-3B47609F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007E-A353-4FF0-8CAE-D2260EBF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60AB-FAB2-4049-87A6-3BD623B11C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A549-3011-4032-9D32-0AD322CF2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Handwriting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Handwriting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Handwriting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Handwriting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Lucida Handwriting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Handwriting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3.pct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The First Wav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Lucida Handwriting"/>
              </a:rPr>
              <a:t>Article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Handwriting"/>
              </a:rPr>
              <a:t>The First Paragraph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Paragraph 1 : The Maldives</a:t>
            </a:r>
            <a:endParaRPr b="0" lang="en-US" sz="4400" spc="-1" strike="noStrike">
              <a:solidFill>
                <a:srgbClr val="000000"/>
              </a:solidFill>
              <a:latin typeface="Lucida Handwriting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eople come to the Maldives ( the smallest of Asian countries ) to scuba dive, surf, fish, and cruise in picturesque atolls known for white sandy beaches .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d crystal-clear turquoise waters waters and coral reefs teeming with tropical fish of rainbow colors.</a:t>
            </a:r>
            <a:endParaRPr b="0" lang="en-US" sz="3200" spc="-1" strike="noStrike">
              <a:solidFill>
                <a:srgbClr val="000000"/>
              </a:solidFill>
              <a:latin typeface="Lucida Handwriting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162920" y="5538960"/>
            <a:ext cx="1981080" cy="131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7581960" y="1371600"/>
            <a:ext cx="1562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5:01:51Z</dcterms:created>
  <dc:creator>PA Department of Education</dc:creator>
  <dc:description/>
  <dc:language>en-US</dc:language>
  <cp:lastModifiedBy>PA Department of Education</cp:lastModifiedBy>
  <dcterms:modified xsi:type="dcterms:W3CDTF">2009-05-21T15:20:29Z</dcterms:modified>
  <cp:revision>1</cp:revision>
  <dc:subject/>
  <dc:title>The First Wave  Article</dc:title>
</cp:coreProperties>
</file>